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78E-71D4-4670-9E63-7D7B2688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DD0-64F7-49A9-A558-646FEA0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A9F-814C-416D-A3B4-F03E29BC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D48-84E7-4841-B7A1-00C54592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4A9-9AA6-4047-9210-55B5727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5273-1BCE-440A-8CA8-71E5FD57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9183-5DAA-4E1E-A302-539F50F2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B3E-90C7-43F4-A740-E18F227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6AE2-CD1B-4C30-AFF6-08A9056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D57E-9D8B-4156-97E9-1CE7D3E1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615-CDC5-4E68-9C6A-555552B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D92-5801-4814-B066-562AF90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467-2279-42F3-98FC-920E446E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16DC-70F6-4A61-AB49-BF67DC9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C90-8A66-4EB1-AE1E-9C20820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40D2-973E-4461-923E-B60D4351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4F6D-90E8-46B6-A1C4-F93A7A34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2EEF-2AFD-45A0-9BC9-F0204093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0F28-E1E4-49BF-A2CB-C6B9A76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03A2-A405-4B5E-BDFB-89250D9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8A56-1CDA-48D1-A8DE-C486433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2646-FAB6-4AA5-9553-2028268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E72-D13A-4EE6-9C06-8F68708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27A8-1C0B-43E0-A5DB-E44472B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315F-4FC0-4103-B837-09F0C1A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0DC3-4A64-4817-AD85-D84161D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DE66-8D39-450A-96F6-B208B16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7BAB-14D6-4334-B610-3F44334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1AF8-BEE4-4D2A-AAB0-6C710F5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F883-30CA-4654-82C3-84C27D96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F1F2B-7BBC-49AE-836E-17143C23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DBA0-A2E7-48E9-A4EE-8F20F89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B713-A8B0-464D-BADA-B01A9F1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249-1416-4F60-803F-7D5AAEE7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52D0-A582-4425-B81C-8BA84E9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7E8A-B22A-4285-AD2C-F754C158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3621-BC31-43C6-9DD3-BA16D03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4C6D-D3B3-48BB-869F-1B30E45A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780F-3EDD-4B05-BD82-8F63B4C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ADC2-AFF7-4638-9FE8-9E59F81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CFC9-7A20-495F-B0A6-C601835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CE50-01D2-4BB8-A503-F9EB581C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7D61-B027-49B9-B78F-1B64D8D4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1613-9710-4A5C-8C58-0F1D599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3C9-135E-4A70-8345-83C12C1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158E-E623-4366-A993-DF3D8C7E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A526-6254-4DF1-9066-705DAE2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B8D09-9E94-487F-8470-21AF67A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B12B-9C2B-4018-98C3-9AFB817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46BA-E981-4DDF-8B0F-C17A4E5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A831-2793-4531-B5C5-DF44A62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7278-E23F-49D9-930B-4368950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9A80-D528-401D-BC44-C64DD5D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E719-29B8-4994-8D84-E56D915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82A2-5D3C-4FC4-A12B-19CA19A8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83F-A739-4818-902E-460F907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F0018-F878-4D9D-8138-8A5E87D8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9AA-C8B8-4261-8376-35C48D3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2E9-4DBF-4665-8649-9D33BC2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F8A-C2CA-44A0-BD9B-7759213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3D35-3D44-4264-8008-3135F8FCA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A5E-0E2F-483B-B2B7-677C50E67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1F1F-21EC-4BAD-9DF6-C4B00C57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881-972E-4E0C-8C6F-1B2378F8C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B0D5-61ED-4FC8-82FF-8B60029EC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Verdana"/>
              </a:rPr>
              <a:t>See Opening Checklist on the Website for a Detail 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Basics of Opening a Hotel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4a7"/>
                </a:solidFill>
                <a:latin typeface="Verdana"/>
              </a:rPr>
              <a:t>The ar</a:t>
            </a: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The General Manager(GM) or </a:t>
            </a:r>
            <a:br>
              <a:rPr sz="2900"/>
            </a:b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Operations Project Manager (OPM) </a:t>
            </a:r>
            <a:r>
              <a:rPr b="0" lang="en-US" sz="2900" spc="-1" strike="noStrike">
                <a:solidFill>
                  <a:srgbClr val="7030a0"/>
                </a:solidFill>
                <a:latin typeface="Verdana"/>
              </a:rPr>
              <a:t>should :</a:t>
            </a:r>
            <a:br>
              <a:rPr sz="2900"/>
            </a:br>
            <a:r>
              <a:rPr b="1" lang="en-US" sz="3200" spc="-1" strike="noStrike">
                <a:solidFill>
                  <a:srgbClr val="fff4a7"/>
                </a:solidFill>
                <a:latin typeface="Verdana"/>
              </a:rPr>
              <a:t>t and science of opening a hotel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blueprints and specifications for the entire buil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ist in creation of model ro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pre-opening staff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nd manage pre-opening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supplies and equipment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see the purchase, delivery and installation of supplies and equi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Blueprints</a:t>
            </a: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8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ensure good flow for guests, staff and go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 the loca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lhop bag storage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keeper’s clo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urants and cafes / kitch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Staff Plan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an organization chart with all pos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spreadsheet consisting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us and allow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 cos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aken from pre-opening staff pl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les and marketing effor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dvertising and promotion, contracts, public relations, and travelling to see client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cellaneous 2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office space before moving, utilities, recruitment and selection costs, licenses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Budget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60020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$8000 to $10000 per room for 4 or 5 star hot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exceed 2500 items (more for full service resort, less for in city business ho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and lobb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room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and beverage (F&amp;B)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quet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tch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ve office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uni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Operational Supplies and Equipment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13:32Z</dcterms:created>
  <dc:creator>robert</dc:creator>
  <dc:description/>
  <dc:language>en-US</dc:language>
  <cp:lastModifiedBy>robert</cp:lastModifiedBy>
  <dcterms:modified xsi:type="dcterms:W3CDTF">2011-03-31T14:24:17Z</dcterms:modified>
  <cp:revision>2</cp:revision>
  <dc:subject/>
  <dc:title>The Basics of Opening a Hotel</dc:title>
</cp:coreProperties>
</file>